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2.png" ContentType="image/png"/>
  <Override PartName="/ppt/media/image14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6.wmf" ContentType="image/x-wmf"/>
  <Override PartName="/ppt/media/image29.wmf" ContentType="image/x-wmf"/>
  <Override PartName="/ppt/media/image65.wmf" ContentType="image/x-wmf"/>
  <Override PartName="/ppt/media/image28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10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068D-037C-41D9-BB53-5F2F28EC22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6068-31CA-4F7C-A245-4A1F4FD14A0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F8D3-FD9D-47DD-A88E-0BAF59BB7D8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E31-9DE1-4D84-A8C4-DA7D5761848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EF51-D002-472B-BDF9-71288934266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8DAC-37AB-42D4-9B76-137218877FC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4243-54DF-4D0E-835E-4620C95387F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A422-C749-47E1-89DA-856CCD9E864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4A94-B16B-4E03-B71A-1C3A06BDA00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96CC-4800-4514-80E2-43CA547DFEF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F9C3-F69F-4759-ADED-BDD7D2C5459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A033-A914-4F6B-AFC2-E0BF498E4F5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F7FA-05B9-4E7C-8AF9-7A9CD069A4F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2636-2E9B-42F2-A1BE-B4DCD2A4ECE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2C03-62A7-4699-88BB-9B0112C3FFB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96FE-1E61-4C15-BD23-6693CBB6E18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0FD-35A3-4851-AF36-3598FB7B69E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3FE-DB06-45A7-B92F-6BF8D889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076-D7A4-4716-9834-7FDA1D7E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0EA-5814-495E-B492-1A0B7B29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6FD-A7B1-43F0-8246-3ACE4362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3E6B-9C58-4775-8E24-855D85F9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896A-EEF0-408B-B0F9-A106994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4D45-E74E-4520-943D-DE4F8EA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BBD0-58B0-46AD-A92E-0CFB5FEE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8257-6C0A-40DA-A7F4-944F7DA1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5971-AE90-472F-8F03-E7F37A6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0FC3-A506-43D4-A615-8C6DDB1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18B-3E14-4452-BD21-6ADCA652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77B2-71B7-48B5-A398-4DE5892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C2B3-DFAF-4CE9-88BD-59CC9C79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0542-CE9B-4F06-91C6-34747A0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9903-F025-479C-A541-2EB326C7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0231-9E06-4745-B8C1-222814FD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5662-84AF-45CE-A889-A2167ECC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6B2C-982E-4C05-A804-8CB3D981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51D7-C39D-45E0-A382-98D86B8B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E517-1698-4346-AFC9-7DA4000B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DC96-6FA6-4B66-903A-0B767250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300-CD32-4BE1-B764-C63A745F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A71C-B91F-41C1-AFC6-DE1819AF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14A6-A2D2-437E-A96E-6823DCD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9139-03D9-4056-8117-DECE5DBF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E774-408B-49C8-8669-DB580E9E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7EE3-2651-45FD-AC55-4DE68A62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6561-F646-44AC-BF01-74177F0D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E22CF-370D-4F25-AB4F-C0A7DB6D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ABA6-373D-49AB-9C98-1642AD46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92A4-31E7-4AD3-8F1B-7117F3E0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DB6B-98A8-4CAB-B243-AC436AE8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47E-005F-4193-85CE-99DF2551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A608-D456-462C-95AC-669221E9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15CD-A218-485C-AE1F-CF6EBB6C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39CDA-603C-42DE-B236-F62FB718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FA64-A5F1-4E19-AC03-B0D297C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2C926-1412-4151-9E1F-71C8E3C6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3ACB-5763-4F79-8A6E-1B3052B7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ADC6-04F7-404A-97F2-AD8F88FD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C082-180A-4435-8DD4-BD52453B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1672-1EB5-41D2-A26B-4CFB0922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77C-A079-4843-8BC8-05A7DDB7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562-643E-4875-A560-0ABF65B7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2DD-8414-4DD2-8591-A6E2DD3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171-C6FC-4CB2-8BDD-C00B8CE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9F8-1001-4FE6-A771-C5B37AAB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3BDC-188C-4A49-82E0-39DFA4270845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7B3-A5AD-429F-9197-B6344A43B595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D007-C9D7-4A79-9373-6972613B9BE9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E22A-2B5B-40D8-A7CC-0034BE67F02D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2B91-96D9-4CE4-8305-903E30CE9F34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FD48-9391-4B7D-A2C1-F14ADAA009F1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88FA-C386-4010-910F-3DF60CF3BBBA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7B19-16C4-4107-B7B6-6639129933A0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17680" y="615960"/>
            <a:ext cx="7370640" cy="1004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pg.398 #1,3,7,8,11-14   pg. 419 #3 (work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call: Dot Produ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find the scalar and vector projection of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0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2"/>
          <p:cNvGraphicFramePr/>
          <p:nvPr/>
        </p:nvGraphicFramePr>
        <p:xfrm>
          <a:off x="755640" y="1989000"/>
          <a:ext cx="4395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989000"/>
                    <a:ext cx="4395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3"/>
          <p:cNvGraphicFramePr/>
          <p:nvPr/>
        </p:nvGraphicFramePr>
        <p:xfrm>
          <a:off x="3492360" y="2421000"/>
          <a:ext cx="129564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421000"/>
                    <a:ext cx="1295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Find the angle that vecto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makes with the z-axis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1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5"/>
          <p:cNvGraphicFramePr/>
          <p:nvPr/>
        </p:nvGraphicFramePr>
        <p:xfrm>
          <a:off x="4500720" y="2060640"/>
          <a:ext cx="13269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060640"/>
                    <a:ext cx="13269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find the scalar and vector projection of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26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3"/>
          <p:cNvGraphicFramePr/>
          <p:nvPr/>
        </p:nvGraphicFramePr>
        <p:xfrm>
          <a:off x="755640" y="1989000"/>
          <a:ext cx="4395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989000"/>
                    <a:ext cx="4395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4"/>
          <p:cNvGraphicFramePr/>
          <p:nvPr/>
        </p:nvGraphicFramePr>
        <p:xfrm>
          <a:off x="3492360" y="2421000"/>
          <a:ext cx="129564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2421000"/>
                    <a:ext cx="1295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k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 force acting on an object does work when the object moves. The work done by a force is a scalar quantity equal to the product of the distance the object is displaced and the component of the force in the direction of the displacement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36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 force,     , moves a particle from O to 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ts displacement vector i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Scalar projection of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i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42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Object 3"/>
          <p:cNvGraphicFramePr/>
          <p:nvPr/>
        </p:nvGraphicFramePr>
        <p:xfrm>
          <a:off x="1547640" y="1413000"/>
          <a:ext cx="44928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1413000"/>
                    <a:ext cx="4492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4"/>
          <p:cNvGraphicFramePr/>
          <p:nvPr/>
        </p:nvGraphicFramePr>
        <p:xfrm>
          <a:off x="4427640" y="1994040"/>
          <a:ext cx="1439640" cy="66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994040"/>
                    <a:ext cx="143964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5"/>
          <p:cNvGraphicFramePr/>
          <p:nvPr/>
        </p:nvGraphicFramePr>
        <p:xfrm>
          <a:off x="4356000" y="2997360"/>
          <a:ext cx="1419480" cy="64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56000" y="2997360"/>
                    <a:ext cx="14194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6"/>
          <p:cNvGraphicFramePr/>
          <p:nvPr/>
        </p:nvGraphicFramePr>
        <p:xfrm>
          <a:off x="6227640" y="2997360"/>
          <a:ext cx="2281320" cy="71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7640" y="2997360"/>
                    <a:ext cx="22813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54" name="Straight Arrow Connector 13"/>
          <p:cNvCxnSpPr/>
          <p:nvPr/>
        </p:nvCxnSpPr>
        <p:spPr>
          <a:xfrm>
            <a:off x="2339640" y="5444640"/>
            <a:ext cx="266436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55" name="Straight Arrow Connector 15"/>
          <p:cNvCxnSpPr/>
          <p:nvPr/>
        </p:nvCxnSpPr>
        <p:spPr>
          <a:xfrm flipV="1">
            <a:off x="2338920" y="4075920"/>
            <a:ext cx="1369080" cy="1369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456" name="Straight Connector 17"/>
          <p:cNvSpPr/>
          <p:nvPr/>
        </p:nvSpPr>
        <p:spPr>
          <a:xfrm>
            <a:off x="3708360" y="4076640"/>
            <a:ext cx="0" cy="136836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7"/>
          <p:cNvGraphicFramePr/>
          <p:nvPr/>
        </p:nvGraphicFramePr>
        <p:xfrm>
          <a:off x="1908000" y="5381640"/>
          <a:ext cx="21600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5381640"/>
                    <a:ext cx="216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9"/>
          <p:cNvGraphicFramePr/>
          <p:nvPr/>
        </p:nvGraphicFramePr>
        <p:xfrm>
          <a:off x="3564000" y="5516640"/>
          <a:ext cx="287280" cy="288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64000" y="5516640"/>
                    <a:ext cx="2872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11"/>
          <p:cNvGraphicFramePr/>
          <p:nvPr/>
        </p:nvGraphicFramePr>
        <p:xfrm>
          <a:off x="2759040" y="4221000"/>
          <a:ext cx="300240" cy="37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59040" y="4221000"/>
                    <a:ext cx="300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12"/>
          <p:cNvGraphicFramePr/>
          <p:nvPr/>
        </p:nvGraphicFramePr>
        <p:xfrm>
          <a:off x="4211640" y="5516640"/>
          <a:ext cx="297000" cy="560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11640" y="5516640"/>
                    <a:ext cx="2970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3"/>
          <p:cNvGraphicFramePr/>
          <p:nvPr/>
        </p:nvGraphicFramePr>
        <p:xfrm>
          <a:off x="5076720" y="5300640"/>
          <a:ext cx="287280" cy="289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76720" y="5300640"/>
                    <a:ext cx="2872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5056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The work done by a force      , in displacing an object through </a:t>
            </a: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 is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Force is measured in Newtons, 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Distance is measured in metres, m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  <a:ea typeface="Arial"/>
              </a:rPr>
              <a:t>Work is measured in Newton-metres (Nm) = Joules (J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69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3"/>
          <p:cNvGraphicFramePr/>
          <p:nvPr/>
        </p:nvGraphicFramePr>
        <p:xfrm>
          <a:off x="4284720" y="1916280"/>
          <a:ext cx="44748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916280"/>
                    <a:ext cx="44748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4"/>
          <p:cNvGraphicFramePr/>
          <p:nvPr/>
        </p:nvGraphicFramePr>
        <p:xfrm>
          <a:off x="1692360" y="2349360"/>
          <a:ext cx="34920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349360"/>
                    <a:ext cx="3492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12"/>
          <p:cNvGraphicFramePr/>
          <p:nvPr/>
        </p:nvGraphicFramePr>
        <p:xfrm>
          <a:off x="2340000" y="3213000"/>
          <a:ext cx="189072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8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3213000"/>
                    <a:ext cx="1890720" cy="684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3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alculate the work done by a 10.N force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n moving a particle from A(2,1) to B(8,5), when the force acts at an angle of 45 degrees 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nd the distance is measured in metres.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81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Object 4"/>
          <p:cNvGraphicFramePr/>
          <p:nvPr/>
        </p:nvGraphicFramePr>
        <p:xfrm>
          <a:off x="6804000" y="1989000"/>
          <a:ext cx="37152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1989000"/>
                    <a:ext cx="3715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5"/>
          <p:cNvGraphicFramePr/>
          <p:nvPr/>
        </p:nvGraphicFramePr>
        <p:xfrm>
          <a:off x="6516720" y="3068640"/>
          <a:ext cx="57636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3068640"/>
                    <a:ext cx="5763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5092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vecto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is the “Vector Projection of    on    “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scalar       is the “Scalar Projection of    on   “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08" name="Straight Arrow Connector 10"/>
          <p:cNvCxnSpPr/>
          <p:nvPr/>
        </p:nvCxnSpPr>
        <p:spPr>
          <a:xfrm>
            <a:off x="2916360" y="5229360"/>
            <a:ext cx="2088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12"/>
          <p:cNvCxnSpPr/>
          <p:nvPr/>
        </p:nvCxnSpPr>
        <p:spPr>
          <a:xfrm flipV="1">
            <a:off x="2915280" y="4365000"/>
            <a:ext cx="719640" cy="864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0" name="Straight Connector 14"/>
          <p:cNvSpPr/>
          <p:nvPr/>
        </p:nvSpPr>
        <p:spPr>
          <a:xfrm>
            <a:off x="3635280" y="4365720"/>
            <a:ext cx="0" cy="86364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16"/>
          <p:cNvCxnSpPr/>
          <p:nvPr/>
        </p:nvCxnSpPr>
        <p:spPr>
          <a:xfrm>
            <a:off x="2916000" y="5229360"/>
            <a:ext cx="7196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2" name="Straight Connector 18"/>
          <p:cNvSpPr/>
          <p:nvPr/>
        </p:nvSpPr>
        <p:spPr>
          <a:xfrm flipH="1">
            <a:off x="3492000" y="5084640"/>
            <a:ext cx="1429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0"/>
          <p:cNvSpPr/>
          <p:nvPr/>
        </p:nvSpPr>
        <p:spPr>
          <a:xfrm>
            <a:off x="3492360" y="5084640"/>
            <a:ext cx="0" cy="14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255600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3492360" y="5300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3564000" y="400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4788000" y="5300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10"/>
          <p:cNvGraphicFramePr/>
          <p:nvPr/>
        </p:nvGraphicFramePr>
        <p:xfrm>
          <a:off x="3132000" y="4941720"/>
          <a:ext cx="208080" cy="2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941720"/>
                    <a:ext cx="20808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11"/>
          <p:cNvGraphicFramePr/>
          <p:nvPr/>
        </p:nvGraphicFramePr>
        <p:xfrm>
          <a:off x="2916360" y="4508640"/>
          <a:ext cx="27936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4508640"/>
                    <a:ext cx="27936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2"/>
          <p:cNvGraphicFramePr/>
          <p:nvPr/>
        </p:nvGraphicFramePr>
        <p:xfrm>
          <a:off x="4140360" y="5300640"/>
          <a:ext cx="207720" cy="32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5300640"/>
                    <a:ext cx="207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5"/>
          <p:cNvGraphicFramePr/>
          <p:nvPr/>
        </p:nvGraphicFramePr>
        <p:xfrm>
          <a:off x="2050920" y="2133720"/>
          <a:ext cx="576360" cy="4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2133720"/>
                    <a:ext cx="576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6875640" y="1989000"/>
          <a:ext cx="347400" cy="59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75640" y="1989000"/>
                    <a:ext cx="3474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7596360" y="2060640"/>
          <a:ext cx="485640" cy="56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96360" y="2060640"/>
                    <a:ext cx="485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8"/>
          <p:cNvGraphicFramePr/>
          <p:nvPr/>
        </p:nvGraphicFramePr>
        <p:xfrm>
          <a:off x="2124000" y="2637000"/>
          <a:ext cx="600120" cy="57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4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24000" y="2637000"/>
                    <a:ext cx="6001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0"/>
          <p:cNvGraphicFramePr/>
          <p:nvPr/>
        </p:nvGraphicFramePr>
        <p:xfrm>
          <a:off x="6875640" y="2565360"/>
          <a:ext cx="288720" cy="54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6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5640" y="2565360"/>
                    <a:ext cx="2887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21"/>
          <p:cNvGraphicFramePr/>
          <p:nvPr/>
        </p:nvGraphicFramePr>
        <p:xfrm>
          <a:off x="7596360" y="2565360"/>
          <a:ext cx="431640" cy="60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8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6360" y="2565360"/>
                    <a:ext cx="4316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diagram derive th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ormula for the scalar projection of      on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lso Recall: Dot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o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1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43" name="Straight Arrow Connector 10"/>
          <p:cNvCxnSpPr/>
          <p:nvPr/>
        </p:nvCxnSpPr>
        <p:spPr>
          <a:xfrm>
            <a:off x="2916360" y="5877000"/>
            <a:ext cx="2088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4" name="Straight Arrow Connector 12"/>
          <p:cNvCxnSpPr/>
          <p:nvPr/>
        </p:nvCxnSpPr>
        <p:spPr>
          <a:xfrm flipV="1">
            <a:off x="2915280" y="5012640"/>
            <a:ext cx="719640" cy="864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5" name="Straight Connector 14"/>
          <p:cNvSpPr/>
          <p:nvPr/>
        </p:nvSpPr>
        <p:spPr>
          <a:xfrm>
            <a:off x="3635280" y="5013360"/>
            <a:ext cx="0" cy="86364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16"/>
          <p:cNvCxnSpPr/>
          <p:nvPr/>
        </p:nvCxnSpPr>
        <p:spPr>
          <a:xfrm>
            <a:off x="2916000" y="5877000"/>
            <a:ext cx="7196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7" name="Straight Connector 18"/>
          <p:cNvSpPr/>
          <p:nvPr/>
        </p:nvSpPr>
        <p:spPr>
          <a:xfrm flipH="1">
            <a:off x="3492000" y="5732640"/>
            <a:ext cx="1429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>
            <a:off x="3492360" y="5732640"/>
            <a:ext cx="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1"/>
          <p:cNvSpPr/>
          <p:nvPr/>
        </p:nvSpPr>
        <p:spPr>
          <a:xfrm>
            <a:off x="2484360" y="5732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2"/>
          <p:cNvSpPr/>
          <p:nvPr/>
        </p:nvSpPr>
        <p:spPr>
          <a:xfrm>
            <a:off x="341964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3492360" y="4724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478800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32000" y="5589720"/>
          <a:ext cx="208080" cy="2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5589720"/>
                    <a:ext cx="2080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3059280" y="5013360"/>
          <a:ext cx="28080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5013360"/>
                    <a:ext cx="2808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4140360" y="5950080"/>
          <a:ext cx="207720" cy="32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5950080"/>
                    <a:ext cx="2077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7"/>
          <p:cNvGraphicFramePr/>
          <p:nvPr/>
        </p:nvGraphicFramePr>
        <p:xfrm>
          <a:off x="5651640" y="2133720"/>
          <a:ext cx="29664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2133720"/>
                    <a:ext cx="296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7"/>
          <p:cNvGraphicFramePr/>
          <p:nvPr/>
        </p:nvGraphicFramePr>
        <p:xfrm>
          <a:off x="6372360" y="2133720"/>
          <a:ext cx="48564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2133720"/>
                    <a:ext cx="4856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2"/>
          <p:cNvGraphicFramePr/>
          <p:nvPr/>
        </p:nvGraphicFramePr>
        <p:xfrm>
          <a:off x="6875640" y="2133720"/>
          <a:ext cx="105696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75640" y="2133720"/>
                    <a:ext cx="10569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9"/>
          <p:cNvGraphicFramePr/>
          <p:nvPr/>
        </p:nvGraphicFramePr>
        <p:xfrm>
          <a:off x="2843280" y="2708280"/>
          <a:ext cx="2376360" cy="65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2708280"/>
                    <a:ext cx="23763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7"/>
          <p:cNvGraphicFramePr/>
          <p:nvPr/>
        </p:nvGraphicFramePr>
        <p:xfrm>
          <a:off x="920880" y="3362400"/>
          <a:ext cx="2138400" cy="1249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1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20880" y="3362400"/>
                    <a:ext cx="2138400" cy="1249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ormula for the scalar projection of      on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calar projection of     on    = Scalar projection of     on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L.S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R.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4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6"/>
          <p:cNvGraphicFramePr/>
          <p:nvPr/>
        </p:nvGraphicFramePr>
        <p:xfrm>
          <a:off x="6372360" y="1700280"/>
          <a:ext cx="296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1700280"/>
                    <a:ext cx="296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7"/>
          <p:cNvGraphicFramePr/>
          <p:nvPr/>
        </p:nvGraphicFramePr>
        <p:xfrm>
          <a:off x="5508720" y="1700280"/>
          <a:ext cx="48564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1700280"/>
                    <a:ext cx="485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12"/>
          <p:cNvGraphicFramePr/>
          <p:nvPr/>
        </p:nvGraphicFramePr>
        <p:xfrm>
          <a:off x="1127160" y="2349360"/>
          <a:ext cx="20048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27160" y="2349360"/>
                    <a:ext cx="2004840" cy="1185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5" name="Object 14"/>
          <p:cNvGraphicFramePr/>
          <p:nvPr/>
        </p:nvGraphicFramePr>
        <p:xfrm>
          <a:off x="2987640" y="3860640"/>
          <a:ext cx="360360" cy="54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3860640"/>
                    <a:ext cx="3603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5"/>
          <p:cNvGraphicFramePr/>
          <p:nvPr/>
        </p:nvGraphicFramePr>
        <p:xfrm>
          <a:off x="3708360" y="3933720"/>
          <a:ext cx="35892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08360" y="3933720"/>
                    <a:ext cx="358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16"/>
          <p:cNvGraphicFramePr/>
          <p:nvPr/>
        </p:nvGraphicFramePr>
        <p:xfrm>
          <a:off x="6948360" y="3933720"/>
          <a:ext cx="424080" cy="490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0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48360" y="3933720"/>
                    <a:ext cx="424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17"/>
          <p:cNvGraphicFramePr/>
          <p:nvPr/>
        </p:nvGraphicFramePr>
        <p:xfrm>
          <a:off x="7740720" y="3933720"/>
          <a:ext cx="457200" cy="48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2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740720" y="3933720"/>
                    <a:ext cx="4572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18"/>
          <p:cNvGraphicFramePr/>
          <p:nvPr/>
        </p:nvGraphicFramePr>
        <p:xfrm>
          <a:off x="1187280" y="4508640"/>
          <a:ext cx="676440" cy="1050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4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87280" y="4508640"/>
                    <a:ext cx="6764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9"/>
          <p:cNvGraphicFramePr/>
          <p:nvPr/>
        </p:nvGraphicFramePr>
        <p:xfrm>
          <a:off x="4140360" y="4437000"/>
          <a:ext cx="1295280" cy="1944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6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40360" y="4437000"/>
                    <a:ext cx="12952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Finding Direction Angles of a Vector in R</a:t>
            </a:r>
            <a:r>
              <a:rPr b="1" lang="en-CA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f    is a unit vector, then the scalar projection o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s jus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f                         then the scalar projection on the standard basis vectors            are a,b,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vector projection on the axes are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9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6"/>
          <p:cNvGraphicFramePr/>
          <p:nvPr/>
        </p:nvGraphicFramePr>
        <p:xfrm>
          <a:off x="6875640" y="2492280"/>
          <a:ext cx="129852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5640" y="2492280"/>
                    <a:ext cx="1298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4"/>
          <p:cNvGraphicFramePr/>
          <p:nvPr/>
        </p:nvGraphicFramePr>
        <p:xfrm>
          <a:off x="539640" y="2565360"/>
          <a:ext cx="424080" cy="4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2565360"/>
                    <a:ext cx="4240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2"/>
          <p:cNvGraphicFramePr/>
          <p:nvPr/>
        </p:nvGraphicFramePr>
        <p:xfrm>
          <a:off x="1332000" y="3068640"/>
          <a:ext cx="7189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068640"/>
                    <a:ext cx="718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3"/>
          <p:cNvGraphicFramePr/>
          <p:nvPr/>
        </p:nvGraphicFramePr>
        <p:xfrm>
          <a:off x="684360" y="3860640"/>
          <a:ext cx="1863720" cy="5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3860640"/>
                    <a:ext cx="18637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4"/>
          <p:cNvGraphicFramePr/>
          <p:nvPr/>
        </p:nvGraphicFramePr>
        <p:xfrm>
          <a:off x="2195640" y="4292640"/>
          <a:ext cx="863640" cy="59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4292640"/>
                    <a:ext cx="863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5"/>
          <p:cNvGraphicFramePr/>
          <p:nvPr/>
        </p:nvGraphicFramePr>
        <p:xfrm>
          <a:off x="5508720" y="5013360"/>
          <a:ext cx="1657080" cy="7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08720" y="5013360"/>
                    <a:ext cx="16570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Let                be the angle         makes with the positive x axis, positive y axis and positive z axis respectively. The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8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9"/>
          <p:cNvGraphicFramePr/>
          <p:nvPr/>
        </p:nvGraphicFramePr>
        <p:xfrm>
          <a:off x="900000" y="1700280"/>
          <a:ext cx="120024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700280"/>
                    <a:ext cx="12002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10"/>
          <p:cNvGraphicFramePr/>
          <p:nvPr/>
        </p:nvGraphicFramePr>
        <p:xfrm>
          <a:off x="3924360" y="1700280"/>
          <a:ext cx="57636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1700280"/>
                    <a:ext cx="5763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11"/>
          <p:cNvGraphicFramePr/>
          <p:nvPr/>
        </p:nvGraphicFramePr>
        <p:xfrm>
          <a:off x="2340000" y="2708280"/>
          <a:ext cx="3503520" cy="34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708280"/>
                    <a:ext cx="350352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 the direction angles that                       makes with the positive x,y and z axes respectively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1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5"/>
          <p:cNvGraphicFramePr/>
          <p:nvPr/>
        </p:nvGraphicFramePr>
        <p:xfrm>
          <a:off x="2411280" y="2781360"/>
          <a:ext cx="322920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781360"/>
                    <a:ext cx="3229200" cy="103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8" name="Object 7"/>
          <p:cNvGraphicFramePr/>
          <p:nvPr/>
        </p:nvGraphicFramePr>
        <p:xfrm>
          <a:off x="2411280" y="3909960"/>
          <a:ext cx="3168720" cy="10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909960"/>
                    <a:ext cx="3168720" cy="100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2411280" y="5013360"/>
          <a:ext cx="314352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5013360"/>
                    <a:ext cx="3143520" cy="100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2" name="Object 9"/>
          <p:cNvGraphicFramePr/>
          <p:nvPr/>
        </p:nvGraphicFramePr>
        <p:xfrm>
          <a:off x="5076720" y="1773360"/>
          <a:ext cx="179568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1773360"/>
                    <a:ext cx="1795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50920" y="1773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the Vector Projec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Recall: Scalar projection is    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Multiply it by a unit vector pointing along    and we will have: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Vector Projection of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6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48" name="Straight Arrow Connector 10"/>
          <p:cNvCxnSpPr/>
          <p:nvPr/>
        </p:nvCxnSpPr>
        <p:spPr>
          <a:xfrm>
            <a:off x="2916360" y="5877000"/>
            <a:ext cx="2088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49" name="Straight Arrow Connector 12"/>
          <p:cNvCxnSpPr/>
          <p:nvPr/>
        </p:nvCxnSpPr>
        <p:spPr>
          <a:xfrm flipV="1">
            <a:off x="2915280" y="5012640"/>
            <a:ext cx="719640" cy="864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50" name="Straight Connector 14"/>
          <p:cNvSpPr/>
          <p:nvPr/>
        </p:nvSpPr>
        <p:spPr>
          <a:xfrm>
            <a:off x="3635280" y="5013360"/>
            <a:ext cx="0" cy="86364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Straight Arrow Connector 16"/>
          <p:cNvCxnSpPr/>
          <p:nvPr/>
        </p:nvCxnSpPr>
        <p:spPr>
          <a:xfrm>
            <a:off x="2916000" y="5877000"/>
            <a:ext cx="7196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52" name="Straight Connector 18"/>
          <p:cNvSpPr/>
          <p:nvPr/>
        </p:nvSpPr>
        <p:spPr>
          <a:xfrm flipH="1">
            <a:off x="3492000" y="5732640"/>
            <a:ext cx="14292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0"/>
          <p:cNvSpPr/>
          <p:nvPr/>
        </p:nvSpPr>
        <p:spPr>
          <a:xfrm>
            <a:off x="3492360" y="5732640"/>
            <a:ext cx="0" cy="144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1"/>
          <p:cNvSpPr/>
          <p:nvPr/>
        </p:nvSpPr>
        <p:spPr>
          <a:xfrm>
            <a:off x="2484360" y="5732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2"/>
          <p:cNvSpPr/>
          <p:nvPr/>
        </p:nvSpPr>
        <p:spPr>
          <a:xfrm>
            <a:off x="341964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3"/>
          <p:cNvSpPr/>
          <p:nvPr/>
        </p:nvSpPr>
        <p:spPr>
          <a:xfrm>
            <a:off x="3492360" y="4724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4"/>
          <p:cNvSpPr/>
          <p:nvPr/>
        </p:nvSpPr>
        <p:spPr>
          <a:xfrm>
            <a:off x="478800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3"/>
          <p:cNvGraphicFramePr/>
          <p:nvPr/>
        </p:nvGraphicFramePr>
        <p:xfrm>
          <a:off x="3132000" y="5589720"/>
          <a:ext cx="208080" cy="2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5589720"/>
                    <a:ext cx="2080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4"/>
          <p:cNvGraphicFramePr/>
          <p:nvPr/>
        </p:nvGraphicFramePr>
        <p:xfrm>
          <a:off x="3059280" y="5013360"/>
          <a:ext cx="28080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5013360"/>
                    <a:ext cx="2808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5"/>
          <p:cNvGraphicFramePr/>
          <p:nvPr/>
        </p:nvGraphicFramePr>
        <p:xfrm>
          <a:off x="4140360" y="5950080"/>
          <a:ext cx="207720" cy="32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5950080"/>
                    <a:ext cx="2077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3995640" y="2138400"/>
          <a:ext cx="64764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2138400"/>
                    <a:ext cx="647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5724360" y="2637000"/>
          <a:ext cx="508320" cy="46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2637000"/>
                    <a:ext cx="50832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13"/>
          <p:cNvGraphicFramePr/>
          <p:nvPr/>
        </p:nvGraphicFramePr>
        <p:xfrm>
          <a:off x="262080" y="3141720"/>
          <a:ext cx="8334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2080" y="3141720"/>
                    <a:ext cx="833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4"/>
          <p:cNvGraphicFramePr/>
          <p:nvPr/>
        </p:nvGraphicFramePr>
        <p:xfrm>
          <a:off x="4211640" y="3068640"/>
          <a:ext cx="1087560" cy="552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4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068640"/>
                    <a:ext cx="10875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7.5 Scalar &amp; Vector Proje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50920" y="1557000"/>
            <a:ext cx="842472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the Vector Projection (of a on b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unit vector pointing alo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77" name="Object 8"/>
          <p:cNvGraphicFramePr/>
          <p:nvPr/>
        </p:nvGraphicFramePr>
        <p:xfrm>
          <a:off x="2771640" y="32846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2846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Straight Arrow Connector 10"/>
          <p:cNvCxnSpPr/>
          <p:nvPr/>
        </p:nvCxnSpPr>
        <p:spPr>
          <a:xfrm>
            <a:off x="5076360" y="2781360"/>
            <a:ext cx="208836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80" name="Straight Arrow Connector 12"/>
          <p:cNvCxnSpPr/>
          <p:nvPr/>
        </p:nvCxnSpPr>
        <p:spPr>
          <a:xfrm flipV="1">
            <a:off x="5076720" y="1915560"/>
            <a:ext cx="720000" cy="865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81" name="Straight Connector 14"/>
          <p:cNvSpPr/>
          <p:nvPr/>
        </p:nvSpPr>
        <p:spPr>
          <a:xfrm>
            <a:off x="5796000" y="1916280"/>
            <a:ext cx="0" cy="86508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Straight Arrow Connector 16"/>
          <p:cNvCxnSpPr/>
          <p:nvPr/>
        </p:nvCxnSpPr>
        <p:spPr>
          <a:xfrm>
            <a:off x="5076720" y="2781360"/>
            <a:ext cx="7200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83" name="TextBox 21"/>
          <p:cNvSpPr/>
          <p:nvPr/>
        </p:nvSpPr>
        <p:spPr>
          <a:xfrm>
            <a:off x="4643280" y="2708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2"/>
          <p:cNvSpPr/>
          <p:nvPr/>
        </p:nvSpPr>
        <p:spPr>
          <a:xfrm>
            <a:off x="5651640" y="2852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3"/>
          <p:cNvSpPr/>
          <p:nvPr/>
        </p:nvSpPr>
        <p:spPr>
          <a:xfrm>
            <a:off x="5796000" y="1557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4"/>
          <p:cNvSpPr/>
          <p:nvPr/>
        </p:nvSpPr>
        <p:spPr>
          <a:xfrm>
            <a:off x="7020000" y="2924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5"/>
          <p:cNvSpPr/>
          <p:nvPr/>
        </p:nvSpPr>
        <p:spPr>
          <a:xfrm>
            <a:off x="2916360" y="508464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3"/>
          <p:cNvGraphicFramePr/>
          <p:nvPr/>
        </p:nvGraphicFramePr>
        <p:xfrm>
          <a:off x="5219640" y="2565360"/>
          <a:ext cx="208080" cy="2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565360"/>
                    <a:ext cx="20808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Box 27"/>
          <p:cNvSpPr/>
          <p:nvPr/>
        </p:nvSpPr>
        <p:spPr>
          <a:xfrm>
            <a:off x="2987640" y="4653000"/>
            <a:ext cx="360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8"/>
          <p:cNvSpPr/>
          <p:nvPr/>
        </p:nvSpPr>
        <p:spPr>
          <a:xfrm>
            <a:off x="1979640" y="4365720"/>
            <a:ext cx="360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5148360" y="2060640"/>
          <a:ext cx="27936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2060640"/>
                    <a:ext cx="27936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5"/>
          <p:cNvGraphicFramePr/>
          <p:nvPr/>
        </p:nvGraphicFramePr>
        <p:xfrm>
          <a:off x="6300720" y="2924280"/>
          <a:ext cx="206280" cy="3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2924280"/>
                    <a:ext cx="20628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7"/>
          <p:cNvGraphicFramePr/>
          <p:nvPr/>
        </p:nvGraphicFramePr>
        <p:xfrm>
          <a:off x="1547640" y="3716280"/>
          <a:ext cx="64800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3716280"/>
                    <a:ext cx="648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7"/>
          <p:cNvGraphicFramePr/>
          <p:nvPr/>
        </p:nvGraphicFramePr>
        <p:xfrm>
          <a:off x="6516720" y="3933720"/>
          <a:ext cx="507960" cy="466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16720" y="3933720"/>
                    <a:ext cx="5079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11"/>
          <p:cNvGraphicFramePr/>
          <p:nvPr/>
        </p:nvGraphicFramePr>
        <p:xfrm>
          <a:off x="1258920" y="2205000"/>
          <a:ext cx="2106720" cy="12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1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58920" y="2205000"/>
                    <a:ext cx="2106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02" name="Straight Arrow Connector 38"/>
          <p:cNvCxnSpPr/>
          <p:nvPr/>
        </p:nvCxnSpPr>
        <p:spPr>
          <a:xfrm flipV="1">
            <a:off x="1908000" y="3357720"/>
            <a:ext cx="216720" cy="358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03" name="Straight Arrow Connector 40"/>
          <p:cNvCxnSpPr/>
          <p:nvPr/>
        </p:nvCxnSpPr>
        <p:spPr>
          <a:xfrm flipH="1" flipV="1">
            <a:off x="3131280" y="3572640"/>
            <a:ext cx="288360" cy="36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graphicFrame>
        <p:nvGraphicFramePr>
          <p:cNvPr id="404" name="Object 13"/>
          <p:cNvGraphicFramePr/>
          <p:nvPr/>
        </p:nvGraphicFramePr>
        <p:xfrm>
          <a:off x="1403280" y="4838760"/>
          <a:ext cx="3240000" cy="15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5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03280" y="4838760"/>
                    <a:ext cx="3240000" cy="1574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14T02:59:26Z</dcterms:modified>
  <cp:revision>263</cp:revision>
  <dc:subject/>
  <dc:title>2.2 Derivatives of Polynomial Functions</dc:title>
</cp:coreProperties>
</file>